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28.wmf" ContentType="image/x-wmf"/>
  <Override PartName="/ppt/media/image30.wmf" ContentType="image/x-wmf"/>
  <Override PartName="/ppt/media/image10.png" ContentType="image/png"/>
  <Override PartName="/ppt/media/image5.wmf" ContentType="image/x-wmf"/>
  <Override PartName="/ppt/media/image31.wmf" ContentType="image/x-wmf"/>
  <Override PartName="/ppt/media/image6.wmf" ContentType="image/x-wmf"/>
  <Override PartName="/ppt/media/image11.png" ContentType="image/png"/>
  <Override PartName="/ppt/media/image35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34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21.wmf" ContentType="image/x-wmf"/>
  <Override PartName="/ppt/media/image22.wmf" ContentType="image/x-wmf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BF7-DA32-46ED-BE7A-1311735B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B783-4491-4679-8AFC-4BE59708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93F-23A2-4D0E-A011-365DE4CF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201-6857-4852-BCB4-48A44237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CB4B-85E0-4AC0-BD0C-CD3F4011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FC0A-E087-4F01-8F79-55348382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EBC5-574A-481A-88CD-08EB9658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3838-DCDB-41FF-BBEE-2590E605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35B-8237-4BDE-BC65-B9228200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A33-D799-4ED9-918F-D2AF716F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804-9C42-4580-BAAB-551B64FA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6E7-9AC0-4028-9BC9-7FB0FFEF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070D-A6D0-4094-8BA6-9A115D1050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2565000"/>
            <a:ext cx="756108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000" spc="-1" strike="noStrike">
                <a:solidFill>
                  <a:srgbClr val="b00000"/>
                </a:solidFill>
                <a:latin typeface="Times New Roman"/>
              </a:rPr>
              <a:t>Математика</a:t>
            </a:r>
            <a:endParaRPr b="1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4076280"/>
            <a:ext cx="481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43" name="Picture 5" descr="Описание: C:\Users\Николай\Documents\Логотип модерн 1 копия.JPG"/>
          <p:cNvPicPr/>
          <p:nvPr/>
        </p:nvPicPr>
        <p:blipFill>
          <a:blip r:embed="rId2"/>
          <a:stretch/>
        </p:blipFill>
        <p:spPr>
          <a:xfrm>
            <a:off x="2987640" y="333360"/>
            <a:ext cx="2774880" cy="1670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80000" y="486900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201</a:t>
            </a:r>
            <a:r>
              <a:rPr b="1" lang="uk-UA" sz="44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D:\интерент\chart.png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2133720"/>
            <a:ext cx="8353440" cy="1582560"/>
          </a:xfrm>
          <a:prstGeom prst="rect">
            <a:avLst/>
          </a:prstGeom>
          <a:solidFill>
            <a:srgbClr val="ffffff"/>
          </a:solidFill>
          <a:ln w="28440">
            <a:solidFill>
              <a:srgbClr val="a50021"/>
            </a:solidFill>
            <a:prstDash val="lgDash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f497d"/>
                </a:solidFill>
                <a:latin typeface="Times New Roman"/>
              </a:rPr>
              <a:t>Загальні висновки щодо результатів виконання завдань сертифікаційної роботи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8353440" cy="1173240"/>
          </a:xfrm>
          <a:prstGeom prst="rect">
            <a:avLst/>
          </a:prstGeom>
          <a:ln w="28440">
            <a:solidFill>
              <a:srgbClr val="1f497d"/>
            </a:solidFill>
            <a:prstDash val="dash"/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2060640"/>
            <a:ext cx="9144000" cy="2376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4437000"/>
            <a:ext cx="9144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244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353440" cy="571320"/>
          </a:xfrm>
          <a:prstGeom prst="rect">
            <a:avLst/>
          </a:prstGeom>
          <a:ln w="28440">
            <a:solidFill>
              <a:srgbClr val="1f497d"/>
            </a:solidFill>
            <a:prstDash val="dash"/>
            <a:miter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1162080"/>
            <a:ext cx="9144000" cy="2636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0" y="3705120"/>
            <a:ext cx="91440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8335800" cy="576360"/>
          </a:xfrm>
          <a:prstGeom prst="rect">
            <a:avLst/>
          </a:prstGeom>
          <a:ln w="28440">
            <a:solidFill>
              <a:srgbClr val="1f497d"/>
            </a:solidFill>
            <a:prstDash val="dash"/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1413000"/>
            <a:ext cx="9144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42280" cy="1008360"/>
          </a:xfrm>
          <a:prstGeom prst="rect">
            <a:avLst/>
          </a:prstGeom>
          <a:ln w="28440">
            <a:solidFill>
              <a:srgbClr val="1f497d"/>
            </a:solidFill>
            <a:prstDash val="dash"/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58920" y="1452600"/>
            <a:ext cx="74898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835344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1411560"/>
            <a:ext cx="8353440" cy="35060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міст  роботи  визначено    </a:t>
            </a:r>
            <a:r>
              <a:rPr b="1" lang="uk-UA" sz="3200" spc="-1" strike="noStrike">
                <a:solidFill>
                  <a:srgbClr val="1f497d"/>
                </a:solidFill>
                <a:latin typeface="Times New Roman"/>
              </a:rPr>
              <a:t>Програмою   зовнішнього   незалежного  оцінювання  з   математик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для   осіб,   які   бажають  здобувати  вищу  освіту на основі повної  загальної середньої освіти, затвердженою наказом  Міністерства освіти і науки України від </a:t>
            </a:r>
            <a:r>
              <a:rPr b="1" lang="uk-UA" sz="3200" spc="-1" strike="noStrike">
                <a:solidFill>
                  <a:srgbClr val="1f497d"/>
                </a:solidFill>
                <a:latin typeface="Times New Roman"/>
              </a:rPr>
              <a:t>03.02.2016 р. № 7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189000"/>
            <a:ext cx="7561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f497d"/>
                </a:solidFill>
                <a:latin typeface="Times New Roman"/>
              </a:rPr>
              <a:t>Особливості ЗНО з математики </a:t>
            </a:r>
            <a:br>
              <a:rPr sz="3600"/>
            </a:br>
            <a:r>
              <a:rPr b="1" lang="uk-UA" sz="3600" spc="-1" strike="noStrike">
                <a:solidFill>
                  <a:srgbClr val="1f497d"/>
                </a:solidFill>
                <a:latin typeface="Times New Roman"/>
              </a:rPr>
              <a:t>2017 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353440" cy="1800360"/>
          </a:xfrm>
          <a:prstGeom prst="rect">
            <a:avLst/>
          </a:prstGeom>
          <a:ln w="28440">
            <a:solidFill>
              <a:srgbClr val="1f497d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7240" y="0"/>
            <a:ext cx="897876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353440" cy="3024360"/>
          </a:xfrm>
          <a:prstGeom prst="rect">
            <a:avLst/>
          </a:prstGeom>
          <a:ln w="28440">
            <a:solidFill>
              <a:srgbClr val="1f497d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19112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-27000" y="2620800"/>
            <a:ext cx="9159840" cy="23162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4941720"/>
            <a:ext cx="9144000" cy="191628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0" y="4941720"/>
            <a:ext cx="9144000" cy="191628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353440" cy="1582560"/>
          </a:xfrm>
          <a:prstGeom prst="rect">
            <a:avLst/>
          </a:prstGeom>
          <a:ln w="38160">
            <a:solidFill>
              <a:srgbClr val="1f497d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553320"/>
            <a:ext cx="9144000" cy="5213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Критерії оцінювання відкритих завдань з розгорнутою відповіддю з математики розміщено на сайті Українського центру оцінювання якості освіти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http://testportal.gov.u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у розділі «Підготовка до ЗНО – 2017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a50021"/>
                </a:solidFill>
                <a:latin typeface="Times New Roman"/>
              </a:rPr>
              <a:t>Приклади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 застосування критеріїв оцінювання завдань з розгорнутою відповіддю з математики </a:t>
            </a:r>
            <a:r>
              <a:rPr b="1" i="1" lang="uk-UA" sz="2800" spc="-1" strike="noStrike">
                <a:solidFill>
                  <a:srgbClr val="a50021"/>
                </a:solidFill>
                <a:latin typeface="Times New Roman"/>
              </a:rPr>
              <a:t>до конкретних завдань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 розміщено на сайті Одеського регіонального центру оцінювання якості освіт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www.test-center.od.ua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у розділі «ЗНО – 2017», «Готуємося до ЗН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7812000" y="4149720"/>
            <a:ext cx="107172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7020000" y="2708280"/>
            <a:ext cx="1071360" cy="137808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5" descr=""/>
          <p:cNvPicPr/>
          <p:nvPr/>
        </p:nvPicPr>
        <p:blipFill>
          <a:blip r:embed="rId3"/>
          <a:stretch/>
        </p:blipFill>
        <p:spPr>
          <a:xfrm>
            <a:off x="250920" y="836640"/>
            <a:ext cx="807084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738440"/>
            <a:ext cx="9144000" cy="532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indent="142920">
              <a:lnSpc>
                <a:spcPct val="90000"/>
              </a:lnSpc>
              <a:spcBef>
                <a:spcPts val="700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езультат виконання завдань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1–28, 31, 3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у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раховувати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к результат  </a:t>
            </a:r>
            <a:r>
              <a:rPr b="1" lang="uk-UA" sz="2800" spc="-1" strike="noStrike">
                <a:solidFill>
                  <a:srgbClr val="1f497d"/>
                </a:solidFill>
                <a:latin typeface="Times New Roman"/>
              </a:rPr>
              <a:t>державної   підсумкової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uk-UA" sz="2800" spc="-1" strike="noStrike">
                <a:solidFill>
                  <a:srgbClr val="1f497d"/>
                </a:solidFill>
                <a:latin typeface="Times New Roman"/>
              </a:rPr>
              <a:t>атестації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 освітній рівень повної загальної середньо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світи для випускників старшої школи загальноосвітні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авчальних закладів 2017 року (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за вибором випускни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429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езультат виконання всіх завдань сертифікаційно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боти буде використовуватися </a:t>
            </a:r>
            <a:r>
              <a:rPr b="1" lang="uk-UA" sz="2800" spc="-1" strike="noStrike">
                <a:solidFill>
                  <a:srgbClr val="1f497d"/>
                </a:solidFill>
                <a:latin typeface="Times New Roman"/>
              </a:rPr>
              <a:t>під час прийому 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Times New Roman"/>
              </a:rPr>
              <a:t>  </a:t>
            </a:r>
            <a:r>
              <a:rPr b="1" lang="uk-UA" sz="2800" spc="-1" strike="noStrike">
                <a:solidFill>
                  <a:srgbClr val="1f497d"/>
                </a:solidFill>
                <a:latin typeface="Times New Roman"/>
              </a:rPr>
              <a:t>вищих навчальних закла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a50021"/>
                </a:solidFill>
                <a:latin typeface="Times New Roman"/>
              </a:rPr>
              <a:t>Тестові завдання для ДПА відповідатимуть рівню стандар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260280"/>
            <a:ext cx="7561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f497d"/>
                </a:solidFill>
                <a:latin typeface="Times New Roman"/>
              </a:rPr>
              <a:t>Особливості ЗНО з математики</a:t>
            </a:r>
            <a:r>
              <a:rPr b="1" lang="uk-UA" sz="2400" spc="-1" strike="noStrike">
                <a:solidFill>
                  <a:srgbClr val="1f497d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uk-UA" sz="3600" spc="-1" strike="noStrike">
                <a:solidFill>
                  <a:srgbClr val="1f497d"/>
                </a:solidFill>
                <a:latin typeface="Times New Roman"/>
              </a:rPr>
              <a:t>2017 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20252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000" spc="-1" strike="noStrike">
                <a:solidFill>
                  <a:srgbClr val="b00000"/>
                </a:solidFill>
                <a:latin typeface="Times New Roman"/>
              </a:rPr>
              <a:t>Результати ЗНО-2016 </a:t>
            </a:r>
            <a:br>
              <a:rPr sz="8000"/>
            </a:br>
            <a:r>
              <a:rPr b="1" i="1" lang="uk-UA" sz="8000" spc="-1" strike="noStrike">
                <a:solidFill>
                  <a:srgbClr val="b00000"/>
                </a:solidFill>
                <a:latin typeface="Times New Roman"/>
              </a:rPr>
              <a:t>з математики</a:t>
            </a:r>
            <a:endParaRPr b="1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15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Кількісний розподіл завдань сертифікаційної роботи за змістовими блоками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914400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041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озподіл учасників тестування з математики за кількістю набраних тестових балів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920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84872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озподіл учасників тестування з математики за кількістю отриманих рейтингових оцінок за шкалою 100 - 200 балів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7848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rcRect l="0" t="2755" r="0" b="0"/>
          <a:stretch/>
        </p:blipFill>
        <p:spPr>
          <a:xfrm>
            <a:off x="0" y="0"/>
            <a:ext cx="4778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76360" y="6491160"/>
            <a:ext cx="2419200" cy="777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rcRect l="0" t="2754" r="0" b="0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56360" y="6381720"/>
            <a:ext cx="2087640" cy="716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1:42:07Z</dcterms:created>
  <dc:creator>Comp</dc:creator>
  <dc:description/>
  <dc:language>en-US</dc:language>
  <cp:lastModifiedBy>ORCOYO</cp:lastModifiedBy>
  <dcterms:modified xsi:type="dcterms:W3CDTF">2017-01-16T14:57:21Z</dcterms:modified>
  <cp:revision>61</cp:revision>
  <dc:subject/>
  <dc:title>Слайд 1</dc:title>
</cp:coreProperties>
</file>